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4AA-E20C-40A9-97DC-E1BB8B8F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3E4-66A6-4CF8-83FE-216F9D4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C78-1804-4E3F-B024-F1D457F1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C9C-9EFC-4211-925F-68767693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8CA-A170-4014-94C4-B8880D6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639-A617-495F-A036-906DAA0A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56A-2EE1-4875-B145-9C700333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CCA-8FE1-4CEE-A516-9B5A501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6B8-2D42-4E6E-899D-EBE98CF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D16-1149-499E-83C1-4110CA7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F90-169B-4DED-A589-B9B51AE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968-CD37-4B59-8092-516806A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493-F970-42A3-B93B-C744454AB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2743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C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llu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228600"/>
            <a:ext cx="27417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27160"/>
            <a:ext cx="27417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733400" cy="1752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752480"/>
            <a:ext cx="1981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28600"/>
            <a:ext cx="2743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C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llu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28600"/>
            <a:ext cx="2743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C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llu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752480"/>
            <a:ext cx="19810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1828800"/>
            <a:ext cx="1981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4481640"/>
            <a:ext cx="173340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00800" y="4524480"/>
            <a:ext cx="173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1:08:11Z</dcterms:created>
  <dc:creator>Judith M Paradis</dc:creator>
  <dc:description/>
  <dc:language>en-US</dc:language>
  <cp:lastModifiedBy>Sandra Roby</cp:lastModifiedBy>
  <dcterms:modified xsi:type="dcterms:W3CDTF">2008-01-01T18:25:30Z</dcterms:modified>
  <cp:revision>15</cp:revision>
  <dc:subject/>
  <dc:title>Slide 1</dc:title>
</cp:coreProperties>
</file>